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CEE-994C-4BA8-9C13-09C859AA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895-86C4-4FBB-85DF-05F43D43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3E6-EB0D-4D78-89E5-0BDA490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A64-5634-4222-BB1F-FBD8DB32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6A21-1F11-48A9-90F7-05366C1B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16BD-6658-4229-AACE-1EF7FEA1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A7D-6C0F-4309-A24D-D31E36F0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A05A-0523-48BF-BFDF-20C9615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835-B6EA-4474-90F7-38C89D3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F5C-AB43-478F-A3F3-969864B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5D69-EDA8-4350-8D05-26F70EF8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079-B68F-4462-9293-0A68DA2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862-1490-460F-AFD1-C95F5DE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8532-0C9D-4709-A4A8-DCE63FD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3BBF-A82E-4CD8-A89B-53CDE54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C161-952A-44B2-B0DA-F4B4AA46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6B2-AE16-4829-95DA-1B851B2A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01A-B045-4891-9476-57658284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F28-C2DA-4B0B-9DD6-972CFA73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C7A-2DE2-4BA9-9751-4EA8533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EBA-FEB3-4407-AE49-B233A0C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D97-0B82-4E99-9C39-2EF2C30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032-7AF0-4AEE-BE27-4FFDCCA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0AA-51CA-4D58-9537-DB6B605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550-B3C6-4AF3-9E46-416A9BD6B6F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D29-08D7-4B5B-9839-9B9D5C29FE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304920"/>
            <a:ext cx="8435880" cy="541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VCE Information Technolog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Unit 3: IT applications (ITA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Unit 4: IT applications (ITA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153280" cy="631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- AREA OF STUDY 1 - Problem-solv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Outcom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pply project management and problem-solving strategies to produce a solution and an information product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using database management software, which meets the decision-making needs of a specific audienc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3 AOS 2 - Organisations: Networks and collaborative problem-solv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Outcome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design, create and evaluate a prototype website that meets an organisation's needs of sharing knowledge and collaborative problem-solving within a virtual team environment, an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explain the requirements of the networked information system that supports the use of this websi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0"/>
            <a:ext cx="8153280" cy="594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02000"/>
                </a:solidFill>
                <a:latin typeface="Times New Roman"/>
              </a:rPr>
              <a:t>Unit 4: IT applications (IT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4 AOS1 - Organisations and information nee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4 Outcom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spreadsheet software to solve an ongoing information problem, taking into account the information needs of an organisation, and evaluate the effectiveness of their problem-solving strategi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4 AOS2 - Data and information securi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4 Outcome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Evaluate the effectiveness of the strategies used by an organisation to manage the storage, communication and disposal of data and information, and recommend improvem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04920"/>
            <a:ext cx="8153280" cy="147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T Applications: Assessmen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330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7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Unit 3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1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atabase sol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roject Man. Pla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 Marks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304920"/>
            <a:ext cx="8153280" cy="147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T Applications: Assessmen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1397160"/>
          <a:ext cx="6096240" cy="4597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6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Unit 4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1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preadshee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n Screen user doc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Visual Represent.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 Marks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04920"/>
            <a:ext cx="8153280" cy="509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nd of Year Examinatio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s 3 &amp; 4 contribute equally to exa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uration of 2 hou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 3 contributes 25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 4 contributes 25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ination contributes 50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0:19:34Z</dcterms:created>
  <dc:creator>VTEL CORP COLLABORATOR</dc:creator>
  <dc:description/>
  <dc:language>en-US</dc:language>
  <cp:lastModifiedBy>Kelvin Baird</cp:lastModifiedBy>
  <cp:lastPrinted>1999-12-25T11:24:43Z</cp:lastPrinted>
  <dcterms:modified xsi:type="dcterms:W3CDTF">2006-12-17T01:45:06Z</dcterms:modified>
  <cp:revision>10</cp:revision>
  <dc:subject/>
  <dc:title>Data and Information</dc:title>
</cp:coreProperties>
</file>